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4164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4164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DF2746E-563C-4272-B5F3-DB0B3BC14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DB8CA9B-8657-4D15-B067-8794F6AE65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758EACC-8380-475C-A634-188E918FEB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82BA66F-AB3B-4FBB-8409-8A56FE2B3E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2EC6265-1D81-4C7B-8480-51F952A00D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13AF9B3-FDAC-4256-A2DF-134C993F99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7C9EF88-8670-48F7-91C4-A8CA6CFC32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1354FC2-7C80-4484-9285-3CC2598266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83DA5D9-7572-4983-A282-E05A5B038B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1F03A3D-F09E-4403-8225-CEEDC8E5E8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CF7A09F-CCF7-4621-878E-C253099B83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77C4A47-404A-41B5-AF3B-DF3EFAD3B2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46BBABD-E206-4748-A01A-C636438F08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41B4448-1745-47EE-9C3D-1F07601906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69ABF04-DB2D-4E50-B1C0-6B87CD75BB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1C1BF06-C0FA-4636-ABB4-24034498CE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F3BB40F-86AB-4953-A52E-F611F57F98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65F377B-E5B9-4504-BE45-3699B15A65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0286695-DB30-4325-9249-F26C39BD7A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3587DEF-524E-4483-8A72-02CF6FF320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D0E31B5-02A4-4B57-A513-BEAF72408A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A77618A-739C-44C6-8CA9-50F2389ED0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6C2CB1C-4404-4294-B6B1-D66CAD4634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9B2829C-C67C-4DB5-B6E2-B360D46E8C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CE3F58A-9EB2-4014-A1CF-2BCB8B1B91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10D63C7-623E-41F1-A8F6-BC3B0234DE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EDD18DF-BEBB-4A45-8775-6EE590F0D7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E14B-8230-4A35-8270-D99E0AF7E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Chapter:11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25909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Police Response to IP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eferred and Mandatory Arrest Polic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160" y="990720"/>
            <a:ext cx="8421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est policies are stated in the laws of each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ies have also been legislated in federal, military, and tribal la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ndatory arr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arrest without  a warrant, based on probable c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arres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y to arrest without a warrant as the preferred, but not required. Incident report justifying why no arrest was made may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ual arr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oth parties are arrested, a discouraged practice, fails to protect vict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imary Aggressor Determin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066680"/>
            <a:ext cx="8345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aggressor, “predominate aggressor” or “dominate aggressor”: is the person responsible for the perpetuation of the violence, not necessarily who initiated it the particular inci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include who started the verbal arguments, verbal provocation is not a justifiable cause for assaultive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states have laws that contain a special aggressor design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ow Do Police Get Involved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ity of calls for service are domestic violence 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 violence calls are crisis situations, in which violence is still occur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er may be the victim, a child, neighbor or someone el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atcher will gather information and prepare the police officer responding to the h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t the Scen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ware that violence is imminent, look and listen, determine the level of 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alls are misdemeanor cr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e offic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720" indent="-45756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if emergency medical care i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720" indent="-45756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e to determine who is the perpet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720" indent="-45756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the level of risk for injury to the vic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720" indent="-45756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the ev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720" indent="-45756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o Arrest or Not to Arrest: That is the Question!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questions to cons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9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ction constitute a cr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9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probable cause that a crime was commit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9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crime a misdemeanor or a felon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9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officer have the warrantless power of arrest for that cr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9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 outstanding protection order that has been viol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ivil Protection Cod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es from state to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tates make it a criminal offense to violate a restraining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3 states mandate an arrest when there is a violation of the restraining or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ental Health Cod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be necessary to remove suspects and hold them involuntary for evaluation at a mental health fac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rgency procedures for overnight commitments are specific to each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Use of Available Resourc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and stat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 and developing the sources for extralegal interventions are beneficial to both the victim and the offic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elder services or adult protec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department of social service and child protection a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tim witness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risis centers – emergency she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About Probable Cause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of proof that must be satisfied for any search or seizure to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ing probable ca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ve knowledge doct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about the susp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’s behavior to po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le hear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s of the po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arch and Seizur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s To The Warrant Requi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n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gent Circumstance And Domestic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Incident To A Lawful Ar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-view Seiz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ck of consensus has resulted in practices that vary widely from state to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clear directions on how to handle complex problems of intimate partner violence cause police officers to respond inappropria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 protection codes and mental health codes appear to complicate the police respo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Police Look Fo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tim inform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ness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idence to be seized whenever poss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stained articles and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graphs of the damage to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graphs of the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graphs of the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ultiple locations, each should be documented for damage, evidence se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view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parties and question individ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phases of the intervie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ment of the psychological content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ual questio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isk Assessmen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suspect believe the victim is attempting to end th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suspect posses a weap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suspect abuse alcohol or dru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threats ma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he suspect committed any previous sexual assaults against the vict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he suspect been following the vict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and severity of the viol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batterer depressed or suffering from mental health proble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viewing the Older Adult Victi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066320"/>
            <a:ext cx="819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ions should be coordinated with adult protective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interviews with public health nurses or others treating medical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 to establish rappo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udio and video technology,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ect confidenti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 contamination, avoid disclos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ers should ask general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for relevant witnesses and their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errogation of Suspect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im Prot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s of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Instant Criminal Background Check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 of Firearm while Subject to Order of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 of Firearm after Conviction of Misdemeanor Crime of Domestic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PA Across State Lin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tate domestic violence and interstate violation of protection orders are two new federal offen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s when batterer travels across state lines to reach the 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if the victim was induced to travel across the state line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onal Stalker and Domestic Violence Reduction Act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ull Faith and Credit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e officers are required to enforce protection orders from other states under the Violence Against Women Act (VAW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ssed by Congress in 1994, reauthorized in 2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hensive efforts to address intimate partner violence, sexual assault, and stalk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date means that a state must enforce another state’s protection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riminalization of Intimate Partner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066320"/>
            <a:ext cx="849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e have a duty to resp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mily Crisis Mode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e officers were trained to negotiate with the parties and refer them to social service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research by the National Institute of Justice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pouse Assault Replication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inneapolis Domestic Violenc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cts arrested, reduced the number of  re-offen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iminalization of intimate partner violence is strongly influenced by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Role of Poli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761760"/>
            <a:ext cx="8345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 disturbances require a substantial portion of  police resou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15 and more than 50 percent of all calls to police are domestic 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le of police is a challenging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istic response and expectations to meet the needs of the victims can cause a role conflict and increase stress for offic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ly required by law and police to make arrest in cases of domestic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Effects of Arrest on IPV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99036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RP research fueled the debate on the effectiveness of ar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tion experiments reported that the use of arrest was only occasionally associated with significant reduction in subsequent repeat offe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s by Maxwell et al, provided evidence supporting the argument that arresting male batterers  may reduce subsequent intimate partner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ypology of Police Responses to Domestic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752480"/>
            <a:ext cx="8345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Enfor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Offi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Investig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lice Officer Train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990720"/>
            <a:ext cx="8650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on domestic violence is imper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-quarters of police departments require specialized domestic violence 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3 percent require the training be received during the both in-service and recruit 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extensive adequate training, police will not implement IPV laws prop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pecialized Domestic Violence Response Unit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447920"/>
            <a:ext cx="8345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rs investigate as if victim is not available to testify on tr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ized domestic violence training with emphasis on evidence col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ritten policies will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dures regarding the arrest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ndling of violations of protection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ucting on-scene investig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s significantly increase the likelihood of prosecution, conviction, and sentenc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rrest Procedur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ndate not clear, many states have preferred and mandated arrest poli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tate has laws that provide police with the power to arrest, conditions for arrest, vary grea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catego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datory arrest (20 st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arrest (9 st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est is at the officer’s discretion (21 st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4:26:15Z</dcterms:modified>
  <cp:revision>146</cp:revision>
  <dc:subject/>
  <dc:title>Slide 1</dc:title>
</cp:coreProperties>
</file>